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11E-B274-401F-91DE-65D305C2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234-08E0-48F8-ABF6-AD3820F4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04E-BA24-442A-B871-2FE2E2C0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255-F76A-4F70-81B1-75F92A6D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27F-ACEC-4036-99C0-7126DE2E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D3A-E6C8-4EF8-804D-EA459F98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EB4-480E-4B02-B95D-910178F8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6A6-1C75-486E-96DB-F9E380B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69C-80E2-4C95-B424-7889B804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02F-C333-47A1-83D4-1E76CBB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641-52BD-4C60-9AD0-937744D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6A0-4B36-42F7-B7B7-74324F1C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A3A3-1298-43C7-9F32-49125C67B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33cc33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 N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aulette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91120" y="3581280"/>
            <a:ext cx="1218960" cy="1905120"/>
          </a:xfrm>
          <a:prstGeom prst="upArrow">
            <a:avLst>
              <a:gd name="adj1" fmla="val 50000"/>
              <a:gd name="adj2" fmla="val 39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19320"/>
            <a:ext cx="2209680" cy="1066680"/>
          </a:xfrm>
          <a:prstGeom prst="rightArrow">
            <a:avLst>
              <a:gd name="adj1" fmla="val 50000"/>
              <a:gd name="adj2" fmla="val 51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2743200"/>
            <a:ext cx="2286000" cy="1066680"/>
          </a:xfrm>
          <a:prstGeom prst="leftArrow">
            <a:avLst>
              <a:gd name="adj1" fmla="val 50000"/>
              <a:gd name="adj2" fmla="val 535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838080"/>
            <a:ext cx="1218960" cy="1981440"/>
          </a:xfrm>
          <a:prstGeom prst="downArrow">
            <a:avLst>
              <a:gd name="adj1" fmla="val 25519"/>
              <a:gd name="adj2" fmla="val 467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0.38381 C -0.01649 0.3052 -0.06788 0.26404 -0.10764 0.28647 C -0.14896 0.3089 -0.16233 0.38751 -0.13802 0.46543 C -0.11302 0.54335 -0.12639 0.62081 -0.16771 0.64393 C -0.20712 0.66636 -0.25903 0.62497 -0.28351 0.54659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4 -0.13804 C -0.17812 -0.08625 -0.03542 -0.40578 0.01979 -0.15191 C -0.03542 -0.40578 0.22778 -0.19607 0.03125 -0.14313 C 0.22778 -0.19607 0.08507 0.12277 0.025 -0.12902 C 0.08507 0.12277 -0.17812 -0.08625 0.01354 -0.13804 Z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261 0.25595 C 0.20261 0.25595 0.12848 0.16532 0.12882 0.16555 C 0.07049 0.08532 0.06233 0.01526 0.0908 -0.05873 C 0.10521 -0.09665 0.129 -0.12347 0.15643 -0.1385 C 0.1757 -0.1489 0.19115 -0.16717 0.20052 -0.19191 C 0.21875 -0.23931 0.2099 -0.29549 0.18143 -0.33387 C 0.1816 -0.33364 0.14705 -0.37896 0.14723 -0.37896 C 0.14705 -0.37896 0.22101 -0.28532 0.22153 -0.28532 C 0.27795 -0.20601 0.28611 -0.13619 0.25851 -0.06428 C 0.24393 -0.02636 0.21962 0.00277 0.18993 0.0185 C 0.17275 0.02821 0.15747 0.04624 0.14861 0.06913 C 0.13056 0.1163 0.13907 0.17249 0.16754 0.21087 C 0.16789 0.2111 0.20261 0.25595 0.20261 0.25595 Z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2 0.05642 L 0.14653 -0.07237 L 0.08021 0.08509 L 0.1757 -0.04347 L 0.11007 0.11491 L 0.20452 -0.01434 L 0.13924 0.14335 L 0.23351 0.0141 L 0.16806 0.17225 L 0.26337 0.04393 L 0.19705 0.20162 L 0.29271 0.07306 L 0.22622 0.23006 L 0.32136 0.10127 L 0.25608 0.25965 L 0.35035 0.1304 L 0.2849 0.28879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6576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0066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L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01Z</dcterms:created>
  <dc:creator>CGB</dc:creator>
  <dc:description/>
  <dc:language>en-US</dc:language>
  <cp:lastModifiedBy>CGB</cp:lastModifiedBy>
  <dcterms:modified xsi:type="dcterms:W3CDTF">2008-06-05T13:39:17Z</dcterms:modified>
  <cp:revision>4</cp:revision>
  <dc:subject/>
  <dc:title>The Cat N Mouse Game</dc:title>
</cp:coreProperties>
</file>